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B65B-3BD9-46D1-B9A7-4DDD96D96F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F992-BBE2-43CD-BC1B-5A99A52829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0C7-B157-47A1-9963-1ECB84CC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79D-0642-4F43-9AB7-B9104470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CA1-89FE-4E82-AC35-E772F8A8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65D-6582-4DF8-8587-0156F8B2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BFE-1F70-4866-81F5-9F07AC13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430-DDD1-4C96-8D8D-FFAA4CE3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D04-1C2A-4A28-838D-151C13D8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D7C-F357-424A-BE8A-6F24AEEE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63A-2EB0-43A8-BEBF-1F6483D6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584-7F26-4FAF-81BC-2A09934C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69B-B869-4AED-871C-C86342C8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626-6C7C-4579-A563-DD92294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1C55-AE16-4D6B-B335-F237FA71C71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p0.blogger.com/_H0iqHTCqRyo/R5DpjbT94RI/AAAAAAAAAUo/FBRQx9YB_qE/s1600-h/User+Story+-+front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p1.blogger.com/_H0iqHTCqRyo/R5DqvrT94SI/AAAAAAAAAUw/AJjgg-glAEg/s1600-h/User+Story+-+back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gile-software-development.com/2008/03/user-stories-should-be-independent.html" TargetMode="External"/><Relationship Id="rId2" Type="http://schemas.openxmlformats.org/officeDocument/2006/relationships/hyperlink" Target="http://www.agile-software-development.com/2008/03/user-stories-should-be-independent.html" TargetMode="External"/><Relationship Id="rId3" Type="http://schemas.openxmlformats.org/officeDocument/2006/relationships/hyperlink" Target="http://www.agile-software-development.com/2008/03/user-stories-should-be-negotiable.html" TargetMode="External"/><Relationship Id="rId4" Type="http://schemas.openxmlformats.org/officeDocument/2006/relationships/hyperlink" Target="http://www.agile-software-development.com/2008/03/user-stories-should-be-negotiable.html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fourthirds-user.com/galleries/data/507/medium/The_Eye_of_the_Needle_v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3d69b"/>
                </a:solidFill>
                <a:latin typeface="Arial Black"/>
              </a:rPr>
              <a:t>Agile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98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Introducing User Sto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ser Story Example: Front of 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bp0.blogger.com/_H0iqHTCqRyo/R5DpjbT94RI/AAAAAAAAAUo/FBRQx9YB_qE/s400/User+Story+-+fron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500120"/>
            <a:ext cx="8215200" cy="4651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ser Story Example: Back of 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bp1.blogger.com/_H0iqHTCqRyo/R5DqvrT94SI/AAAAAAAAAUw/AJjgg-glAEg/s400/User+Story+-+ba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571760"/>
            <a:ext cx="8215200" cy="4491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How detailed should a User Story b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00" y="2714760"/>
            <a:ext cx="8715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tailed enough for the team to start work from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further details to be established and clarifi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t the time of develo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VEST in Good User S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700280"/>
            <a:ext cx="84297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ndependen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User Stories should be as independent as poss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N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egotiabl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User Stories are not a contract. They are not detailed specifications. They are reminders of features for the team to discuss and collaborate to clarify the details near the time of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uable – User Stories should be valuable to the user (or owner) of the solution. They should be written in user language. They should be features, not tas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imatable – User Stories need to be possible to estimate. They need to provide enough information to estimate, without being too detail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ll – User Stories should be small. Not too small. But not too b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table – User Stories need to be worded in a way that is testable, i.e. not too subjective and to provide clear details of how the User Story will be test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ser Stories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1628640"/>
            <a:ext cx="84297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r Stories combine written and verbal communications, supported with a picture where pos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r Stories should describe features that are of value to the user, written in a user’s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r Stories detail just enough information and no m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ails are deferred and captured through collabor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ust in time for develo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st cases should be written before development, when the User Story is writ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r Stories should be Independent, Negotiable, Valuable, Estimatable, Small and Tes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riting Good User S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640" y="2852280"/>
            <a:ext cx="8064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agile-software-development.com/2008/04/writing-good-user-storie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Key Principles for Agil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960" y="197496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e user involvement is impe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ile teams must be empowered to make deci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quirements emerge and evolve as software is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ile requirements are ‘barely sufficient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quirements are developed in small, bite-sized pie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ough’s enough – apply the 80/20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operation, collaboration and communic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tween all team members is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quirements are a Communication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13960" y="1689120"/>
            <a:ext cx="786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ritten requirement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be well thought through, reviewed and ed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a permanent reco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more easily shared with groups of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ime consuming to produ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y be less relevant or superseded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be easily misinterpret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erbal requir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stantaneous feedback and clar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formation-packed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sier to clarify and gain common understa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ore easily adapted to any new information known at the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spark ideas about problems and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 Black"/>
              </a:rPr>
              <a:t>A picture is worth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Arial Black"/>
              </a:rPr>
              <a:t>a thousand wor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Black"/>
                <a:ea typeface="Arial"/>
              </a:rPr>
              <a:t>User Storie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ek to combine the strengths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written and verbal communication,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where possible supported by a pictu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is a User Sto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4200" y="2500200"/>
            <a:ext cx="87156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concise, written description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f a piece of functionality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at will be valuable to a user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or owner) of the softwa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ser Story Cards have 3 p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13880" y="2356920"/>
            <a:ext cx="78584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ar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A written description of the user story  for planning purposes and as a remind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nvers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A section for capturing further information about the user story and details of any conversa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nfirm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- A section to convey what tests will be carried out to confirm the user story is complete and working as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ser Story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4240" y="2071800"/>
            <a:ext cx="75009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s a </a:t>
            </a: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[user role]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 I want to </a:t>
            </a: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[goal]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o I can </a:t>
            </a: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[reason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714240" y="3857760"/>
            <a:ext cx="814392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 a </a:t>
            </a: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registered us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 want to </a:t>
            </a: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log i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 I can </a:t>
            </a: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access subscriber-only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ser Story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71360" y="1928880"/>
            <a:ext cx="77151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user role)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goal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reas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ives clarity as to why a feature is use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influence how a feature should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give you ideas for other useful featur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at support the user's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25:47Z</dcterms:created>
  <dc:creator>watersk</dc:creator>
  <dc:description/>
  <dc:language>en-US</dc:language>
  <cp:lastModifiedBy>Kelly Waters</cp:lastModifiedBy>
  <dcterms:modified xsi:type="dcterms:W3CDTF">2009-05-05T08:24:26Z</dcterms:modified>
  <cp:revision>89</cp:revision>
  <dc:subject/>
  <dc:title>Agile Requirements</dc:title>
</cp:coreProperties>
</file>